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57.wmf" ContentType="image/x-wmf"/>
  <Override PartName="/ppt/media/image55.jpeg" ContentType="image/jpeg"/>
  <Override PartName="/ppt/media/image53.wmf" ContentType="image/x-wmf"/>
  <Override PartName="/ppt/media/image52.jpeg" ContentType="image/jpeg"/>
  <Override PartName="/ppt/media/image1.png" ContentType="image/png"/>
  <Override PartName="/ppt/media/image51.jpeg" ContentType="image/jpeg"/>
  <Override PartName="/ppt/media/image49.wmf" ContentType="image/x-wmf"/>
  <Override PartName="/ppt/media/image48.jpeg" ContentType="image/jpeg"/>
  <Override PartName="/ppt/media/image34.wmf" ContentType="image/x-wmf"/>
  <Override PartName="/ppt/media/image14.wmf" ContentType="image/x-wmf"/>
  <Override PartName="/ppt/media/image27.wmf" ContentType="image/x-wmf"/>
  <Override PartName="/ppt/media/image41.jpeg" ContentType="image/jpeg"/>
  <Override PartName="/ppt/media/image15.wmf" ContentType="image/x-wmf"/>
  <Override PartName="/ppt/media/image20.jpeg" ContentType="image/jpeg"/>
  <Override PartName="/ppt/media/image59.wmf" ContentType="image/x-wmf"/>
  <Override PartName="/ppt/media/image21.jpeg" ContentType="image/jpeg"/>
  <Override PartName="/ppt/media/image16.png" ContentType="image/png"/>
  <Override PartName="/ppt/media/image6.jpeg" ContentType="image/jpeg"/>
  <Override PartName="/ppt/media/image58.wmf" ContentType="image/x-wmf"/>
  <Override PartName="/ppt/media/image65.wmf" ContentType="image/x-wmf"/>
  <Override PartName="/ppt/media/image62.jpeg" ContentType="image/jpeg"/>
  <Override PartName="/ppt/media/image11.wmf" ContentType="image/x-wmf"/>
  <Override PartName="/ppt/media/image61.wmf" ContentType="image/x-wmf"/>
  <Override PartName="/ppt/media/image64.jpeg" ContentType="image/jpeg"/>
  <Override PartName="/ppt/media/image29.wmf" ContentType="image/x-wmf"/>
  <Override PartName="/ppt/media/image63.wmf" ContentType="image/x-wmf"/>
  <Override PartName="/ppt/media/image26.wmf" ContentType="image/x-wmf"/>
  <Override PartName="/ppt/media/image60.wmf" ContentType="image/x-wmf"/>
  <Override PartName="/ppt/media/image2.jpeg" ContentType="image/jpeg"/>
  <Override PartName="/ppt/media/image25.jpeg" ContentType="image/jpeg"/>
  <Override PartName="/ppt/media/image23.jpeg" ContentType="image/jpeg"/>
  <Override PartName="/ppt/media/image32.wmf" ContentType="image/x-wmf"/>
  <Override PartName="/ppt/media/image22.jpeg" ContentType="image/jpeg"/>
  <Override PartName="/ppt/media/image4.wmf" ContentType="image/x-wmf"/>
  <Override PartName="/ppt/media/image66.jpeg" ContentType="image/jpeg"/>
  <Override PartName="/ppt/media/image67.png" ContentType="image/png"/>
  <Override PartName="/ppt/media/image24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37.wmf" ContentType="image/x-wmf"/>
  <Override PartName="/ppt/media/image12.jpeg" ContentType="image/jpe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50.jpeg" ContentType="image/jpeg"/>
  <Override PartName="/ppt/media/image17.wmf" ContentType="image/x-wmf"/>
  <Override PartName="/ppt/media/image5.wmf" ContentType="image/x-wmf"/>
  <Override PartName="/ppt/media/image10.jpeg" ContentType="image/jpeg"/>
  <Override PartName="/ppt/media/image54.wmf" ContentType="image/x-wmf"/>
  <Override PartName="/ppt/media/image3.png" ContentType="image/png"/>
  <Override PartName="/ppt/media/image33.png" ContentType="image/png"/>
  <Override PartName="/ppt/media/image56.jpeg" ContentType="image/jpeg"/>
  <Override PartName="/ppt/media/image28.wmf" ContentType="image/x-wmf"/>
  <Override PartName="/ppt/media/image31.jpeg" ContentType="image/jpeg"/>
  <Override PartName="/ppt/media/image47.wmf" ContentType="image/x-wmf"/>
  <Override PartName="/ppt/media/image35.png" ContentType="image/png"/>
  <Override PartName="/ppt/media/image36.png" ContentType="image/png"/>
  <Override PartName="/ppt/media/image13.wmf" ContentType="image/x-wmf"/>
  <Override PartName="/ppt/media/image40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45.jpeg" ContentType="image/jpeg"/>
  <Override PartName="/ppt/media/image4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F4AA-C424-4B36-8DDF-EF9D87780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m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2DFC-465C-4917-8A4E-A1659477B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ood equivalent circuit as long as your system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F8F1-CF61-47F9-90E4-D994845CA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three most used configu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68FA-FF75-4B48-A16A-FD475A657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the g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7408-591E-4D24-9C1B-C3D45D93C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“2” is a deduced fact! – very cl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9ACD-DD9D-49B0-B3D8-727C8F475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using Nod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B4DD-BD9A-4A99-93E1-B418D2875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using “Node equations” to solve for amplifier 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V2 = V1 !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is at a “virtual ground” due to the high gain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fin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D0C2-1FA8-49EC-A9B1-FB767405D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d this result in Circui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987B-015E-482D-91DB-D3D1057D1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dom needed as the gain is very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D9F8-C254-4E2E-9172-8350C5734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resistance is determined by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is into account in your designs or use a “Buffer am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FDAD-B698-498C-934D-ACF401398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ortant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4640-2CFA-4277-82CE-CD3F3B77D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354D-E8CE-44D0-A8EB-2CB1B90F0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1+ in the 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1E6C-DD11-4E0E-837C-3B95207EB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useful configuration to “buffer” sub-circu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CBD3-3726-45E0-897D-B2943964E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e resistors must be matched to maintain “balance”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7AE1-585D-43C4-B8CF-D1E59F962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seful integrated circuit implementation of an almost idealized amplifier. Oft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balance with respect to ground (important as it maintains symmetry when overdrive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pAmps also have differential out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3B15-4266-42F8-9A80-83171E80C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seful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8E64-3698-44CE-AC76-866D775D4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 – maintain balan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7F53-3FE3-418A-BBD5-BB0FE05AA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lso introduced in AC Circuits (The second circuits course, EE221 at Fairfiel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arlier days we use Analog computers using adders, integrators and multipl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Simulink (in MatLab) simulates an Analog computer using a digital compu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F887-B5E6-456C-8AA7-1CB9C66F7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lized OpAm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inite input impedance (no source load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ly high gain (A – watch out for oscill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 output impedance (can deliver power to a load), but real OpAmps are not Zero (741 has 75 ohm Z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l input (high degree of “common mode” rej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differential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A323-2F47-46EC-86EC-7B914D50F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 you can parallel the input capacitor to limit the noise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3277-53A0-49A2-BF0A-D756AC8EF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Integrated circuits are good, but not per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F237-2C64-4CE1-9FD1-B31582A00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a problem due to the high 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0F5D-3ADF-47C8-8FF7-0D8A8F5F3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pAmp tries to reject the common-mode input while amplifying the differential in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DEF8-12F0-4F7D-8DBB-75CFE9E78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 matching in IC transistors (and resistors) can be very good if the designer takes care to analyze heat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AAE7-7EEC-48B9-BB91-791AC1E22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et nulling is usually a manual adjustment – not great.  It can also be done by careful design of a feedback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0025-CC62-4097-AAB7-0ABA8AC09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OpAmp  specification sheet for terminal pin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5EE0-3DB1-423F-A8B5-BD4937B82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compensation” is the attempt by the designer to maintain stability (no parasitic oscillation) in most uses of the OpA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D7CB-4C3E-49E9-9B37-37F8707B7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mode rejection is the ratio between these two gains (usually stated in dB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 = 20 log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/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30FD-D1DD-4F6D-B3CC-763BEB6E7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“Half-Power” points of the transfer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BA1E-12A2-4176-AF85-F92E72576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can be either “clipping” (hard limiting) or soft saturation (smooth reduction in small signal g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1A2D-7440-4F32-A9DB-653B7F50F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eding the slew rate can cause signal dist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C1BB-D8BF-42F7-8687-A83935DF2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Ideal” is only approached by IC Op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usually high enough to ign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Often higher than needed – follow by a low output impedance stage (emitter-foll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usually quite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– usually high enough when not asking for too much gain with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W – needs to be evaluated in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678E-4E4A-4E79-96CC-1D0E94A5C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8AE62-8972-4108-8F35-7998ADE9E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8375D-1E90-4BF8-9673-46D09B611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0805D-51A3-4CB4-828E-8C74D77F6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150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78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522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150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78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291C9-93BF-4350-B85C-541B068289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A4063-7DA6-4A03-8D23-2B0539B4A1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BF059-48F4-4DBF-B641-66FC7F012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09B34-444B-4869-89F9-7F33F679E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9C47A-715D-4DED-A045-59624AC67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3657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42B9C-5912-477A-AE28-72B6340E1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09A95-13B9-4C9F-9C26-D06834667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20A63-AD06-4DBF-9CAF-652684A83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5DA50-1201-4700-9434-7035B56D3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1"/>
          <p:cNvSpPr/>
          <p:nvPr/>
        </p:nvSpPr>
        <p:spPr>
          <a:xfrm>
            <a:off x="0" y="0"/>
            <a:ext cx="1371600" cy="1676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1371600" y="0"/>
            <a:ext cx="4114800" cy="167652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228240" y="61718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27A0-2A39-408B-B43C-7967F50EB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1371600" y="1600200"/>
            <a:ext cx="411480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93"/>
          <p:cNvSpPr/>
          <p:nvPr/>
        </p:nvSpPr>
        <p:spPr>
          <a:xfrm>
            <a:off x="0" y="1600200"/>
            <a:ext cx="13716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" name="Picture 94" descr="oxford logo4"/>
          <p:cNvPicPr/>
          <p:nvPr/>
        </p:nvPicPr>
        <p:blipFill>
          <a:blip r:embed="rId2"/>
          <a:stretch/>
        </p:blipFill>
        <p:spPr>
          <a:xfrm>
            <a:off x="103320" y="152280"/>
            <a:ext cx="506160" cy="12956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95" descr="book cover2"/>
          <p:cNvPicPr/>
          <p:nvPr/>
        </p:nvPicPr>
        <p:blipFill>
          <a:blip r:embed="rId3"/>
          <a:stretch/>
        </p:blipFill>
        <p:spPr>
          <a:xfrm>
            <a:off x="914400" y="2286000"/>
            <a:ext cx="2797200" cy="3693960"/>
          </a:xfrm>
          <a:prstGeom prst="rect">
            <a:avLst/>
          </a:prstGeom>
          <a:ln w="0">
            <a:noFill/>
          </a:ln>
        </p:spPr>
      </p:pic>
      <p:sp>
        <p:nvSpPr>
          <p:cNvPr id="9" name="Rectangle 96"/>
          <p:cNvSpPr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Chapter #2: Signals and Amplifiers</a:t>
            </a:r>
            <a:endParaRPr b="1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croelectronic Circui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edra and Sm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ford Publi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ifferential &amp; Common-Mode Signa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mon-mode inp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m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efined in terms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447920" y="3559320"/>
          <a:ext cx="6161040" cy="21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559320"/>
                    <a:ext cx="6161040" cy="21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ifferential &amp; Common-Mode Signa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6" descr="se02F04"/>
          <p:cNvPicPr/>
          <p:nvPr/>
        </p:nvPicPr>
        <p:blipFill>
          <a:blip r:embed="rId1"/>
          <a:stretch/>
        </p:blipFill>
        <p:spPr>
          <a:xfrm>
            <a:off x="3124080" y="914400"/>
            <a:ext cx="5791320" cy="5057640"/>
          </a:xfrm>
          <a:prstGeom prst="rect">
            <a:avLst/>
          </a:prstGeom>
          <a:ln w="0">
            <a:noFill/>
          </a:ln>
        </p:spPr>
      </p:pic>
      <p:sp>
        <p:nvSpPr>
          <p:cNvPr id="110" name="Line 7"/>
          <p:cNvSpPr/>
          <p:nvPr/>
        </p:nvSpPr>
        <p:spPr>
          <a:xfrm>
            <a:off x="2590920" y="1676520"/>
            <a:ext cx="34290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Object 9"/>
          <p:cNvGraphicFramePr/>
          <p:nvPr/>
        </p:nvGraphicFramePr>
        <p:xfrm>
          <a:off x="228600" y="870120"/>
          <a:ext cx="2230560" cy="507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870120"/>
                    <a:ext cx="223056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609480" y="2133720"/>
            <a:ext cx="3048120" cy="39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Inverti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figur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basic closed-loop op-amp configur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ich employ op-amp and resistors alo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inverting and 2) non-inverting op 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Inverti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figur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question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are two basic closed-loop op amp configurations which employ op-amp and resistors alon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answer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verting and non-inverting op am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ere we examine the inverting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se02F05"/>
          <p:cNvPicPr/>
          <p:nvPr/>
        </p:nvPicPr>
        <p:blipFill>
          <a:blip r:embed="rId1"/>
          <a:stretch/>
        </p:blipFill>
        <p:spPr>
          <a:xfrm>
            <a:off x="228600" y="1963800"/>
            <a:ext cx="8610480" cy="38275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152280" y="5883120"/>
            <a:ext cx="2971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ource is applied to inverting 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800600" y="5197320"/>
            <a:ext cx="28954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n-inverting input is grou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343400" y="914400"/>
            <a:ext cx="2971800" cy="87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facilitates “negative feedback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762120" y="1981080"/>
            <a:ext cx="2971800" cy="87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regulates level of this feedb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5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inverting closed-loop configu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2.1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osed-Loop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61722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es one analyz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losed-loop g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inverting configuration of an ideal op-am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gin at the output termi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u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s fini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differential input must equal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irtual short circu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tw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irtual groun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ists 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6629400" y="4572000"/>
          <a:ext cx="2057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057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2.1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osed-Loop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3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 current in to inverting inpu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4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rmine where this current flow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er to following slid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2514600" y="4067280"/>
          <a:ext cx="403056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4067280"/>
                    <a:ext cx="403056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Inverti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figur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question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are two basic closed-loop op amp configurations which employ op-amp and resistors alon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answer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verting and non-inverting op-am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ere we examine the inverting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6" descr="se02F05"/>
          <p:cNvPicPr/>
          <p:nvPr/>
        </p:nvPicPr>
        <p:blipFill>
          <a:blip r:embed="rId1"/>
          <a:stretch/>
        </p:blipFill>
        <p:spPr>
          <a:xfrm>
            <a:off x="228600" y="1963800"/>
            <a:ext cx="8610480" cy="38275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28600" y="4874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5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inverting closed-loop configu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1447920" y="327672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447920" y="262080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4495680" y="32767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495680" y="2666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4495680" y="23623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4495680" y="175248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4419720" y="2819520"/>
            <a:ext cx="2743200" cy="2286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2.1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osed-Loop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4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5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erms of current flowing acros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6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titut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5127480" y="2181240"/>
          <a:ext cx="3483000" cy="27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7480" y="2181240"/>
                    <a:ext cx="34830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Line 11"/>
          <p:cNvSpPr/>
          <p:nvPr/>
        </p:nvSpPr>
        <p:spPr>
          <a:xfrm flipV="1">
            <a:off x="6324480" y="502884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28600" y="5638680"/>
            <a:ext cx="86868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ote: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this expression is one of the fundamentals of electron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2.1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osed-Loop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4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question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will w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ep #4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terms of current flowing acros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ep #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titut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6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sis of the inverting configuration. The circled numbers indicate the order of the analysis ste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457200" y="1963800"/>
            <a:ext cx="8077320" cy="46465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5943600" y="2362320"/>
            <a:ext cx="2666880" cy="1623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losed-loop gain                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=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-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5943600"/>
            <a:ext cx="44956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2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Effect of Finite Open-Loop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 does the gain expression change i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pen loop gain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 is not assumed to be infini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e must employ analysis similar to the previous, result is presented below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1905120" y="4038480"/>
          <a:ext cx="5273640" cy="23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038480"/>
                    <a:ext cx="527364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Line 7"/>
          <p:cNvSpPr/>
          <p:nvPr/>
        </p:nvSpPr>
        <p:spPr>
          <a:xfrm flipV="1">
            <a:off x="6400800" y="5410080"/>
            <a:ext cx="53352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8"/>
          <p:cNvSpPr/>
          <p:nvPr/>
        </p:nvSpPr>
        <p:spPr>
          <a:xfrm flipV="1">
            <a:off x="2743200" y="5029200"/>
            <a:ext cx="9907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248520" y="6116760"/>
            <a:ext cx="27432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deal 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52280" y="6116760"/>
            <a:ext cx="27432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on-ideal 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minal characteristic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ideal op-am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nalyze circui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taining op-amps, resistors, and capacito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use op-amps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esign amplifi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ving precise characterist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2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Effect of Finit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en-Loop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der what condition c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 employed over the more complex express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f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1 +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 &lt;&lt;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simpler expression may be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685800" y="4267080"/>
          <a:ext cx="76960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267080"/>
                    <a:ext cx="76960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9"/>
          <p:cNvSpPr/>
          <p:nvPr/>
        </p:nvSpPr>
        <p:spPr>
          <a:xfrm>
            <a:off x="0" y="5943600"/>
            <a:ext cx="44956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Line 10"/>
          <p:cNvSpPr/>
          <p:nvPr/>
        </p:nvSpPr>
        <p:spPr>
          <a:xfrm flipH="1" flipV="1">
            <a:off x="5790960" y="4952880"/>
            <a:ext cx="609480" cy="1524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2743200" y="4952880"/>
            <a:ext cx="7621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152280" y="6126120"/>
            <a:ext cx="27432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deal 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6248520" y="6172200"/>
            <a:ext cx="27432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on-ideal 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2.1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Inverting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blem Statemen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an inverting configuration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Oh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0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Oh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a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ind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losed-loop gain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the cases below.  In each case, determine the percentage error in the magnitude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lative to the ideal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s a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b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is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oltag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appears at the inverting input terminal w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c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open loop gain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hanges from 10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5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at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ercentage chan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gain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2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nput and Output Resistanc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at i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put resistanc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verting op-amp?  How is it defined mathematical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777777"/>
                </a:solidFill>
                <a:latin typeface="Calibri"/>
              </a:rPr>
              <a:t>(refer to math belo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at does this sa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at, for the combination of ideal op-amp and external resistors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put resistance will be finit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2" name="Object 5"/>
          <p:cNvGraphicFramePr/>
          <p:nvPr/>
        </p:nvGraphicFramePr>
        <p:xfrm>
          <a:off x="4038480" y="4572000"/>
          <a:ext cx="4662720" cy="20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4572000"/>
                    <a:ext cx="466272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Line 8"/>
          <p:cNvSpPr/>
          <p:nvPr/>
        </p:nvSpPr>
        <p:spPr>
          <a:xfrm>
            <a:off x="1600200" y="548640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228600" y="4724280"/>
            <a:ext cx="28954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is assumes that ideal op-amp and external resistors are considered “one uni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2.2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other Inverting Op-Am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Problem Statement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 the circuit below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Q(a)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erive an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xpression for the closed-loop gain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Calibri"/>
              </a:rPr>
              <a:t>Out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his circu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Q(b)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se this circuit to design an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nverting amplifier with gain of 10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input resistance of 1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Moh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me that one cannot use any resistor with resistance larger than 1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Moh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Q(c)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mpare your design with that based on traditional inverting configur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6" descr="se02F08"/>
          <p:cNvPicPr/>
          <p:nvPr/>
        </p:nvPicPr>
        <p:blipFill>
          <a:blip r:embed="rId1"/>
          <a:stretch/>
        </p:blipFill>
        <p:spPr>
          <a:xfrm>
            <a:off x="4572000" y="2008080"/>
            <a:ext cx="4343400" cy="29448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4572000" y="525780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2.8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ircuit for Example 2.2. The circled numbers indicate the sequence of the steps in the analy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ample 2.2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other Inverting Op-Amp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argest resistor on may choose is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o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does one begin (in choosing the resistor values)?  Which resistor would you define to be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oh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put resistanc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should be set as high as possible, therefore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o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other resistor values should be defin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oh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oh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0.2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o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4"/>
          <p:cNvSpPr/>
          <p:nvPr/>
        </p:nvSpPr>
        <p:spPr>
          <a:xfrm flipH="1">
            <a:off x="3886200" y="762120"/>
            <a:ext cx="4038480" cy="43434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6934320" y="152280"/>
            <a:ext cx="2057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8000"/>
                </a:solidFill>
                <a:latin typeface="Calibri"/>
              </a:rPr>
              <a:t>PART B: Use this circuit to design an inverting amplifier with gain of 100 and input resistance of 1Mohm.  Assume that one cannot use any resistor with resistance larger than 1Mohm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28600" y="228600"/>
            <a:ext cx="868680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9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 current amplifier based on the circuit of Fig. 2.8. The amplifier delivers its output current t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It has a current gain of (1 +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400" spc="-1" strike="noStrike" baseline="-2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R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a zero input resistance, and an infinite output resistance. The load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however, must be floating (i.e., neither of its two terminals can be connected to groun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4" descr="se02F09"/>
          <p:cNvPicPr/>
          <p:nvPr/>
        </p:nvPicPr>
        <p:blipFill>
          <a:blip r:embed="rId1"/>
          <a:stretch/>
        </p:blipFill>
        <p:spPr>
          <a:xfrm>
            <a:off x="1671480" y="2355840"/>
            <a:ext cx="5796000" cy="412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762120" y="2209680"/>
            <a:ext cx="350496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2.4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n Important Application –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Weighted Summ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weighted summ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is a closed-loop amplifier configuration which provides an output voltage which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eighted s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inpu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4" descr="se02F10"/>
          <p:cNvPicPr/>
          <p:nvPr/>
        </p:nvPicPr>
        <p:blipFill>
          <a:blip r:embed="rId1"/>
          <a:stretch/>
        </p:blipFill>
        <p:spPr>
          <a:xfrm>
            <a:off x="914400" y="4033800"/>
            <a:ext cx="4343400" cy="25192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5486400" y="48769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1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 weighted summ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762120" y="2209680"/>
            <a:ext cx="350496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2.4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n Important Application –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Weighted Summ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weighted summ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is a closed-loop amplifier configuration which provides an output voltage which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eighted s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inpu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0" y="0"/>
            <a:ext cx="91440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4" descr="se02F10"/>
          <p:cNvPicPr/>
          <p:nvPr/>
        </p:nvPicPr>
        <p:blipFill>
          <a:blip r:embed="rId1"/>
          <a:stretch/>
        </p:blipFill>
        <p:spPr>
          <a:xfrm>
            <a:off x="914400" y="4033800"/>
            <a:ext cx="4343400" cy="25192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"/>
          <p:cNvSpPr/>
          <p:nvPr/>
        </p:nvSpPr>
        <p:spPr>
          <a:xfrm>
            <a:off x="5486400" y="48769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1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 weighted summ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380880" y="4160880"/>
            <a:ext cx="6858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380880" y="4694400"/>
            <a:ext cx="6858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In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380880" y="5257800"/>
            <a:ext cx="6858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In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4419720" y="4952880"/>
            <a:ext cx="6858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3200400" y="3962520"/>
            <a:ext cx="6858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1523880" y="3809880"/>
            <a:ext cx="6858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1523880" y="4389480"/>
            <a:ext cx="6858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1523880" y="4923000"/>
            <a:ext cx="6858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228600" y="182520"/>
            <a:ext cx="8686800" cy="6487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Ou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= -[ (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f</a:t>
            </a:r>
            <a:r>
              <a:rPr b="0" i="1" lang="en-US" sz="3200" spc="-1" strike="noStrike" baseline="-25000">
                <a:solidFill>
                  <a:srgbClr val="ffff99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+ (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f</a:t>
            </a:r>
            <a:r>
              <a:rPr b="0" i="1" lang="en-US" sz="3200" spc="-1" strike="noStrike" baseline="-25000">
                <a:solidFill>
                  <a:srgbClr val="ffff99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+ (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f</a:t>
            </a:r>
            <a:r>
              <a:rPr b="0" i="1" lang="en-US" sz="3200" spc="-1" strike="noStrike" baseline="-25000">
                <a:solidFill>
                  <a:srgbClr val="ffff99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+ … 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7 L 0.27916 -0.55324 E">
                                      <p:cBhvr>
                                        <p:cTn id="165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0.52083 -0.64213 E">
                                      <p:cBhvr>
                                        <p:cTn id="167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75416 -0.71319 E">
                                      <p:cBhvr>
                                        <p:cTn id="169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875 -0.51319 E">
                                      <p:cBhvr>
                                        <p:cTn id="171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4.44444E-006 L -0.17083 -0.53541 E">
                                      <p:cBhvr>
                                        <p:cTn id="173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96296E-006 L 0.32083 -0.59768 E">
                                      <p:cBhvr>
                                        <p:cTn id="17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L 0.55416 -0.67546 E">
                                      <p:cBhvr>
                                        <p:cTn id="177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44583 -0.67986 E">
                                      <p:cBhvr>
                                        <p:cTn id="179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n-Inverting Configur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non-inverting op-amp configu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one which utilizes external resistances (like the previous) to effect voltage gain.  However, the polarity / phase of the output is same as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3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e Non-Inver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figuratio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4" descr="se02F12"/>
          <p:cNvPicPr/>
          <p:nvPr/>
        </p:nvPicPr>
        <p:blipFill>
          <a:blip r:embed="rId1"/>
          <a:stretch/>
        </p:blipFill>
        <p:spPr>
          <a:xfrm>
            <a:off x="1143000" y="2057400"/>
            <a:ext cx="6858000" cy="4545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"/>
          <p:cNvSpPr/>
          <p:nvPr/>
        </p:nvSpPr>
        <p:spPr>
          <a:xfrm>
            <a:off x="228600" y="228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1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non-inverting configu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3581280" y="5791320"/>
            <a:ext cx="28958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ource is applied to non-inverting 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228600" y="1981080"/>
            <a:ext cx="2362320" cy="124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verting input is grounded through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3276720" y="641520"/>
            <a:ext cx="4724280" cy="124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ct as voltage divider, regulating negative feedback to the inverting 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3886200" y="3352680"/>
            <a:ext cx="1295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de #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3886200" y="4648320"/>
            <a:ext cx="1295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de #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acteristics of Non-Inverting Op-Amp Configur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0" name="Object 5"/>
          <p:cNvGraphicFramePr/>
          <p:nvPr/>
        </p:nvGraphicFramePr>
        <p:xfrm>
          <a:off x="990720" y="1981080"/>
          <a:ext cx="7989840" cy="49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798984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desig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re sophisticated op-amp circui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ncluding summing amplifiers, instrumentation amplifiers, integrators, and differentia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rtan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n-ideal characteristic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op-amps and how these limit the performance of basic op-amp circu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figuration and Characteristics of Buffer / Voltage-Follower Op-Amp Configur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4" descr="se02F14"/>
          <p:cNvPicPr/>
          <p:nvPr/>
        </p:nvPicPr>
        <p:blipFill>
          <a:blip r:embed="rId1"/>
          <a:stretch/>
        </p:blipFill>
        <p:spPr>
          <a:xfrm>
            <a:off x="228600" y="2830680"/>
            <a:ext cx="8686800" cy="296064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2"/>
          <p:cNvSpPr/>
          <p:nvPr/>
        </p:nvSpPr>
        <p:spPr>
          <a:xfrm>
            <a:off x="228600" y="5791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14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The unity-gain buffer or follower amplifier.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Its equivalent circuit mod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figuration and Characteristics of Buffer / Voltage-Follower Op-Amp Configur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4" descr="se02F14"/>
          <p:cNvPicPr/>
          <p:nvPr/>
        </p:nvPicPr>
        <p:blipFill>
          <a:blip r:embed="rId1"/>
          <a:stretch/>
        </p:blipFill>
        <p:spPr>
          <a:xfrm>
            <a:off x="228600" y="2830680"/>
            <a:ext cx="8686800" cy="29606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"/>
          <p:cNvSpPr/>
          <p:nvPr/>
        </p:nvSpPr>
        <p:spPr>
          <a:xfrm>
            <a:off x="228600" y="5791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14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The unity-gain buffer or follower amplifier.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Its equivalent circuit mod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0"/>
            <a:ext cx="91440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04920" y="380880"/>
            <a:ext cx="8534160" cy="1859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in point?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the buffer amp, output voltage is equal (in both magnitude and phase) to the input source.  However, any current supplied to the load is drawn from amplifier supplies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nd not the input sourc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ifference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difference ampl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a closed-loop configuration whic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sponds to the difference between two sign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pplied at its input and ideally rejects signals that are common to the tw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lly, the amp wil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mplify only the differential signal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dfi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reject completely the common-mode input signal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m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  However, a practical circuit will behave as below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0" y="6172200"/>
            <a:ext cx="4572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3094200" y="5867280"/>
          <a:ext cx="2925720" cy="5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4200" y="5867280"/>
                    <a:ext cx="292572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ifference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04920" y="4149720"/>
            <a:ext cx="38098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fferential 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990720" y="3408480"/>
            <a:ext cx="38098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fferential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2590920" y="1905120"/>
            <a:ext cx="38098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mmon-mode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1828800" y="2646360"/>
            <a:ext cx="38098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mmon-mode 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3962520" y="487692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4495680" y="4114800"/>
            <a:ext cx="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5410080" y="335268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5943600" y="2590920"/>
            <a:ext cx="0" cy="2819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1" name="Object 15"/>
          <p:cNvGraphicFramePr/>
          <p:nvPr/>
        </p:nvGraphicFramePr>
        <p:xfrm>
          <a:off x="2452680" y="5489640"/>
          <a:ext cx="417672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2680" y="5489640"/>
                    <a:ext cx="417672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ifference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mmon-mode rejection ratio 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(CMRR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s the degree to which a differential amplifi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“rejects” the common-m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lly, CMRR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finity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6" name="Object 4"/>
          <p:cNvGraphicFramePr/>
          <p:nvPr/>
        </p:nvGraphicFramePr>
        <p:xfrm>
          <a:off x="2973240" y="4648320"/>
          <a:ext cx="3198960" cy="117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3240" y="4648320"/>
                    <a:ext cx="3198960" cy="11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ifference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1" name="Object 5"/>
          <p:cNvGraphicFramePr/>
          <p:nvPr/>
        </p:nvGraphicFramePr>
        <p:xfrm>
          <a:off x="1936800" y="3914640"/>
          <a:ext cx="5051520" cy="17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0" y="3914640"/>
                    <a:ext cx="50515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4" descr="se02F15"/>
          <p:cNvPicPr/>
          <p:nvPr/>
        </p:nvPicPr>
        <p:blipFill>
          <a:blip r:embed="rId3"/>
          <a:stretch/>
        </p:blipFill>
        <p:spPr>
          <a:xfrm>
            <a:off x="1270080" y="2038320"/>
            <a:ext cx="6121440" cy="45910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3"/>
          <p:cNvSpPr/>
          <p:nvPr/>
        </p:nvSpPr>
        <p:spPr>
          <a:xfrm>
            <a:off x="228600" y="457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15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resenting the input signals to a differential amplifier in terms of their differential and common-mode compon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ifference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p amp itself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fferenti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nature, why cannot it be used by itsel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has 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finite g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therefore cannot be used by itself.  One must devise a closed-loop configuration which facilitates this ope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4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Difference Amplifier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4" descr="se02F16"/>
          <p:cNvPicPr/>
          <p:nvPr/>
        </p:nvPicPr>
        <p:blipFill>
          <a:blip r:embed="rId1"/>
          <a:stretch/>
        </p:blipFill>
        <p:spPr>
          <a:xfrm>
            <a:off x="1143000" y="1981080"/>
            <a:ext cx="6858000" cy="47149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3"/>
          <p:cNvSpPr/>
          <p:nvPr/>
        </p:nvSpPr>
        <p:spPr>
          <a:xfrm>
            <a:off x="228600" y="4874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16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 difference amplifi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 Singl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-Amp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fference Am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are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haracteristics of the difference ampl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fer to following equation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0" y="6172200"/>
            <a:ext cx="4572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8" name="Object 5"/>
          <p:cNvGraphicFramePr/>
          <p:nvPr/>
        </p:nvGraphicFramePr>
        <p:xfrm>
          <a:off x="1177920" y="3854520"/>
          <a:ext cx="674676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7920" y="3854520"/>
                    <a:ext cx="674676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Shift in Not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fore this poin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arameter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is used to represent open-loo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ain of an op am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arameter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is used to represent ideal / non-ideal closed-loop</a:t>
            </a: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of an op am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his poin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arameter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is used to represent ideal gain of an op amp in a given closed-loop configu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arameter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not u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4"/>
          <p:cNvSpPr/>
          <p:nvPr/>
        </p:nvSpPr>
        <p:spPr>
          <a:xfrm rot="5400000">
            <a:off x="7531200" y="60912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-3.33333E-006 1.38889 E">
                                      <p:cBhvr>
                                        <p:cTn id="256" dur="3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172200"/>
            <a:ext cx="4495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1.1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Op Amp Terminal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4381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erminal #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rting 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erminal #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-inverting 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erminal #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erminal #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suppl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erminal #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gative suppl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505400" y="2133720"/>
            <a:ext cx="4486320" cy="4000320"/>
          </a:xfrm>
          <a:prstGeom prst="rect">
            <a:avLst/>
          </a:prstGeom>
          <a:ln w="0">
            <a:noFill/>
          </a:ln>
        </p:spPr>
      </p:pic>
      <p:sp>
        <p:nvSpPr>
          <p:cNvPr id="68" name="Line 6"/>
          <p:cNvSpPr/>
          <p:nvPr/>
        </p:nvSpPr>
        <p:spPr>
          <a:xfrm>
            <a:off x="2133720" y="2286000"/>
            <a:ext cx="281916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7"/>
          <p:cNvSpPr/>
          <p:nvPr/>
        </p:nvSpPr>
        <p:spPr>
          <a:xfrm>
            <a:off x="2133720" y="3200400"/>
            <a:ext cx="274320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2133720" y="3885840"/>
            <a:ext cx="464796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9"/>
          <p:cNvSpPr/>
          <p:nvPr/>
        </p:nvSpPr>
        <p:spPr>
          <a:xfrm flipV="1">
            <a:off x="2133720" y="3581280"/>
            <a:ext cx="396216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10"/>
          <p:cNvSpPr/>
          <p:nvPr/>
        </p:nvSpPr>
        <p:spPr>
          <a:xfrm flipV="1">
            <a:off x="2133720" y="4952520"/>
            <a:ext cx="396216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3818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is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oblem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ociated with the difference amplifi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w input imped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, what does this me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actical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source impedance will have an effect on g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is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lacement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buffers at the input termin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mplifiers which transmit the voltage level but draw minimal cur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ever, can one ge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“more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these amps than simply impedance match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s, mayb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dditional voltage g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2971800" y="1981080"/>
            <a:ext cx="327672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question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owever, can we get “more” from these amps than simply impedance matchin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answer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yes, maybe additional voltage gain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6" descr=""/>
          <p:cNvPicPr/>
          <p:nvPr/>
        </p:nvPicPr>
        <p:blipFill>
          <a:blip r:embed="rId1"/>
          <a:stretch/>
        </p:blipFill>
        <p:spPr>
          <a:xfrm>
            <a:off x="1143000" y="2046240"/>
            <a:ext cx="6629400" cy="458316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2"/>
          <p:cNvSpPr/>
          <p:nvPr/>
        </p:nvSpPr>
        <p:spPr>
          <a:xfrm>
            <a:off x="228600" y="6094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2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 popular circuit for an instrumentation amplifi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9"/>
          <p:cNvSpPr/>
          <p:nvPr/>
        </p:nvSpPr>
        <p:spPr>
          <a:xfrm>
            <a:off x="1219320" y="1981080"/>
            <a:ext cx="3352680" cy="4648320"/>
          </a:xfrm>
          <a:prstGeom prst="rect">
            <a:avLst/>
          </a:prstGeom>
          <a:solidFill>
            <a:srgbClr val="ffff99">
              <a:alpha val="25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1219320" y="1371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age #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447920" y="2209680"/>
            <a:ext cx="28954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on-inverting op amp (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1447920" y="5334120"/>
            <a:ext cx="28954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on-inverting op amp (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4724280" y="1981080"/>
            <a:ext cx="3353040" cy="4648320"/>
          </a:xfrm>
          <a:prstGeom prst="rect">
            <a:avLst/>
          </a:prstGeom>
          <a:solidFill>
            <a:srgbClr val="ffff99">
              <a:alpha val="25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4724280" y="137160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stage #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 Box 15"/>
          <p:cNvSpPr/>
          <p:nvPr/>
        </p:nvSpPr>
        <p:spPr>
          <a:xfrm>
            <a:off x="4952880" y="3809880"/>
            <a:ext cx="28958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difference op amp (</a:t>
            </a:r>
            <a:r>
              <a:rPr b="0" i="1" lang="en-US" sz="3200" spc="-1" strike="noStrike">
                <a:solidFill>
                  <a:srgbClr val="3333ff"/>
                </a:solidFill>
                <a:latin typeface="Calibri"/>
              </a:rPr>
              <a:t>A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1219320" y="4038480"/>
            <a:ext cx="3352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Out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= (1 +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17"/>
          <p:cNvSpPr/>
          <p:nvPr/>
        </p:nvSpPr>
        <p:spPr>
          <a:xfrm>
            <a:off x="4952880" y="4952880"/>
            <a:ext cx="2895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ff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3333ff"/>
                </a:solidFill>
                <a:latin typeface="Calibri"/>
              </a:rPr>
              <a:t>Out</a:t>
            </a: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 = (</a:t>
            </a:r>
            <a:r>
              <a:rPr b="0" i="1" lang="en-US" sz="3200" spc="-1" strike="noStrike">
                <a:solidFill>
                  <a:srgbClr val="3333ff"/>
                </a:solidFill>
                <a:latin typeface="Calibri"/>
              </a:rPr>
              <a:t>R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/</a:t>
            </a:r>
            <a:r>
              <a:rPr b="0" i="1" lang="en-US" sz="3200" spc="-1" strike="noStrike">
                <a:solidFill>
                  <a:srgbClr val="3333ff"/>
                </a:solidFill>
                <a:latin typeface="Calibri"/>
              </a:rPr>
              <a:t>R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)</a:t>
            </a:r>
            <a:r>
              <a:rPr b="0" i="1" lang="en-US" sz="3200" spc="-1" strike="noStrike">
                <a:solidFill>
                  <a:srgbClr val="3333ff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3333ff"/>
                </a:solidFill>
                <a:latin typeface="Calibri"/>
              </a:rPr>
              <a:t>df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ever, can one ge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“more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these amps than simply impedance match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s, mayb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dditional voltage g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0" name="Object 4"/>
          <p:cNvGraphicFramePr/>
          <p:nvPr/>
        </p:nvGraphicFramePr>
        <p:xfrm>
          <a:off x="533520" y="3763800"/>
          <a:ext cx="3446280" cy="21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763800"/>
                    <a:ext cx="344628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Line 6"/>
          <p:cNvSpPr/>
          <p:nvPr/>
        </p:nvSpPr>
        <p:spPr>
          <a:xfrm flipH="1">
            <a:off x="3657240" y="47242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4572000" y="4419720"/>
            <a:ext cx="42670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dditional voltage 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advantag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instrumentation am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ry high input resist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differential g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ymmetric gain </a:t>
            </a:r>
            <a:r>
              <a:rPr b="0" lang="en-US" sz="2600" spc="-1" strike="noStrike">
                <a:solidFill>
                  <a:srgbClr val="808080"/>
                </a:solidFill>
                <a:latin typeface="Calibri"/>
              </a:rPr>
              <a:t>(assuming that </a:t>
            </a:r>
            <a:r>
              <a:rPr b="0" i="1" lang="en-US" sz="2600" spc="-1" strike="noStrike">
                <a:solidFill>
                  <a:srgbClr val="808080"/>
                </a:solidFill>
                <a:latin typeface="Calibri"/>
              </a:rPr>
              <a:t>A</a:t>
            </a:r>
            <a:r>
              <a:rPr b="0" lang="en-US" sz="2600" spc="-1" strike="noStrike" baseline="-25000">
                <a:solidFill>
                  <a:srgbClr val="80808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808080"/>
                </a:solidFill>
                <a:latin typeface="Calibri"/>
              </a:rPr>
              <a:t> and </a:t>
            </a:r>
            <a:r>
              <a:rPr b="0" i="1" lang="en-US" sz="2600" spc="-1" strike="noStrike">
                <a:solidFill>
                  <a:srgbClr val="808080"/>
                </a:solidFill>
                <a:latin typeface="Calibri"/>
              </a:rPr>
              <a:t>A</a:t>
            </a:r>
            <a:r>
              <a:rPr b="0" lang="en-US" sz="2600" spc="-1" strike="noStrike" baseline="-25000">
                <a:solidFill>
                  <a:srgbClr val="80808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808080"/>
                </a:solidFill>
                <a:latin typeface="Calibri"/>
              </a:rPr>
              <a:t> are matched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isadvantages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 instrumentation am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600" spc="-1" strike="noStrike" baseline="-25000">
                <a:solidFill>
                  <a:srgbClr val="ff0000"/>
                </a:solidFill>
                <a:latin typeface="Calibri"/>
              </a:rPr>
              <a:t>Di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i="1" lang="en-US" sz="26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600" spc="-1" strike="noStrike" baseline="-25000">
                <a:solidFill>
                  <a:srgbClr val="ff0000"/>
                </a:solidFill>
                <a:latin typeface="Calibri"/>
              </a:rPr>
              <a:t>Cm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are equal in first stag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meaning that the common-mode and differential inputs are amplified with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equal gain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048120" y="1905120"/>
            <a:ext cx="3124080" cy="39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4726080" y="2730600"/>
            <a:ext cx="4113000" cy="2843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"/>
          <p:cNvPicPr/>
          <p:nvPr/>
        </p:nvPicPr>
        <p:blipFill>
          <a:blip r:embed="rId2"/>
          <a:stretch/>
        </p:blipFill>
        <p:spPr>
          <a:xfrm>
            <a:off x="228600" y="2719440"/>
            <a:ext cx="4113360" cy="28432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5"/>
          <p:cNvSpPr/>
          <p:nvPr/>
        </p:nvSpPr>
        <p:spPr>
          <a:xfrm>
            <a:off x="0" y="1905120"/>
            <a:ext cx="9144000" cy="3962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proble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76320" y="56386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ial gain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&gt;&gt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mmon-mode 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4572000" y="56386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ial gain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mmon-mode 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9"/>
          <p:cNvSpPr/>
          <p:nvPr/>
        </p:nvSpPr>
        <p:spPr>
          <a:xfrm>
            <a:off x="533520" y="29718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Line 10"/>
          <p:cNvSpPr/>
          <p:nvPr/>
        </p:nvSpPr>
        <p:spPr>
          <a:xfrm>
            <a:off x="533520" y="52578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Line 11"/>
          <p:cNvSpPr/>
          <p:nvPr/>
        </p:nvSpPr>
        <p:spPr>
          <a:xfrm flipH="1">
            <a:off x="3352320" y="4114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AutoShape 12"/>
          <p:cNvSpPr/>
          <p:nvPr/>
        </p:nvSpPr>
        <p:spPr>
          <a:xfrm rot="5400000">
            <a:off x="1142640" y="2895480"/>
            <a:ext cx="2590560" cy="2438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13"/>
          <p:cNvSpPr/>
          <p:nvPr/>
        </p:nvSpPr>
        <p:spPr>
          <a:xfrm>
            <a:off x="5105520" y="29718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Line 14"/>
          <p:cNvSpPr/>
          <p:nvPr/>
        </p:nvSpPr>
        <p:spPr>
          <a:xfrm>
            <a:off x="5105520" y="52578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AutoShape 15"/>
          <p:cNvSpPr/>
          <p:nvPr/>
        </p:nvSpPr>
        <p:spPr>
          <a:xfrm rot="5400000">
            <a:off x="5676840" y="2857320"/>
            <a:ext cx="609480" cy="5335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16"/>
          <p:cNvSpPr/>
          <p:nvPr/>
        </p:nvSpPr>
        <p:spPr>
          <a:xfrm rot="5400000">
            <a:off x="5676840" y="4838400"/>
            <a:ext cx="609480" cy="5335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Freeform 17"/>
          <p:cNvSpPr/>
          <p:nvPr/>
        </p:nvSpPr>
        <p:spPr>
          <a:xfrm>
            <a:off x="6248520" y="3124080"/>
            <a:ext cx="1447560" cy="914400"/>
          </a:xfrm>
          <a:custGeom>
            <a:avLst/>
            <a:gdLst/>
            <a:ahLst/>
            <a:rect l="l" t="t" r="r" b="b"/>
            <a:pathLst>
              <a:path w="912" h="576">
                <a:moveTo>
                  <a:pt x="0" y="0"/>
                </a:moveTo>
                <a:lnTo>
                  <a:pt x="384" y="0"/>
                </a:lnTo>
                <a:lnTo>
                  <a:pt x="384" y="576"/>
                </a:lnTo>
                <a:lnTo>
                  <a:pt x="912" y="576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reeform 18"/>
          <p:cNvSpPr/>
          <p:nvPr/>
        </p:nvSpPr>
        <p:spPr>
          <a:xfrm>
            <a:off x="6172200" y="4267080"/>
            <a:ext cx="1523880" cy="838440"/>
          </a:xfrm>
          <a:custGeom>
            <a:avLst/>
            <a:gdLst/>
            <a:ahLst/>
            <a:rect l="l" t="t" r="r" b="b"/>
            <a:pathLst>
              <a:path w="960" h="528">
                <a:moveTo>
                  <a:pt x="0" y="528"/>
                </a:moveTo>
                <a:lnTo>
                  <a:pt x="432" y="528"/>
                </a:lnTo>
                <a:lnTo>
                  <a:pt x="432" y="0"/>
                </a:lnTo>
                <a:lnTo>
                  <a:pt x="96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Line 19"/>
          <p:cNvSpPr/>
          <p:nvPr/>
        </p:nvSpPr>
        <p:spPr>
          <a:xfrm flipH="1">
            <a:off x="7848720" y="41148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20"/>
          <p:cNvSpPr/>
          <p:nvPr/>
        </p:nvSpPr>
        <p:spPr>
          <a:xfrm rot="5400000">
            <a:off x="7581240" y="3848040"/>
            <a:ext cx="609840" cy="5331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21"/>
          <p:cNvSpPr/>
          <p:nvPr/>
        </p:nvSpPr>
        <p:spPr>
          <a:xfrm>
            <a:off x="228600" y="2286000"/>
            <a:ext cx="6858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228600" y="4572000"/>
            <a:ext cx="6858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4800600" y="2286000"/>
            <a:ext cx="6858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24"/>
          <p:cNvSpPr/>
          <p:nvPr/>
        </p:nvSpPr>
        <p:spPr>
          <a:xfrm>
            <a:off x="4800600" y="4572000"/>
            <a:ext cx="6858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 Box 25"/>
          <p:cNvSpPr/>
          <p:nvPr/>
        </p:nvSpPr>
        <p:spPr>
          <a:xfrm>
            <a:off x="1219320" y="3886200"/>
            <a:ext cx="19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0 x 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 Box 26"/>
          <p:cNvSpPr/>
          <p:nvPr/>
        </p:nvSpPr>
        <p:spPr>
          <a:xfrm>
            <a:off x="5638680" y="2316240"/>
            <a:ext cx="1143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7543800" y="3306600"/>
            <a:ext cx="1143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fferential gai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&gt;&gt;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ommon-mode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228600" y="2795760"/>
            <a:ext cx="4113360" cy="28429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4"/>
          <p:cNvSpPr/>
          <p:nvPr/>
        </p:nvSpPr>
        <p:spPr>
          <a:xfrm>
            <a:off x="0" y="1905120"/>
            <a:ext cx="9144000" cy="4038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3048120" y="1981080"/>
            <a:ext cx="312408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Line 6"/>
          <p:cNvSpPr/>
          <p:nvPr/>
        </p:nvSpPr>
        <p:spPr>
          <a:xfrm>
            <a:off x="533520" y="304812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Line 7"/>
          <p:cNvSpPr/>
          <p:nvPr/>
        </p:nvSpPr>
        <p:spPr>
          <a:xfrm>
            <a:off x="533520" y="533412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Line 8"/>
          <p:cNvSpPr/>
          <p:nvPr/>
        </p:nvSpPr>
        <p:spPr>
          <a:xfrm flipH="1">
            <a:off x="3352320" y="419112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"/>
          <p:cNvSpPr/>
          <p:nvPr/>
        </p:nvSpPr>
        <p:spPr>
          <a:xfrm rot="5400000">
            <a:off x="1142280" y="2971800"/>
            <a:ext cx="2590920" cy="2438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228600" y="2332080"/>
            <a:ext cx="22096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10.03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228600" y="5562720"/>
            <a:ext cx="20574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10.02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1219320" y="3962520"/>
            <a:ext cx="19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= 10 x 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4419720" y="3581280"/>
            <a:ext cx="45720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250 x (10.03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02)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Ou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2.5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o problem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fferential gai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ommon-mode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230040" y="2795760"/>
            <a:ext cx="4113360" cy="284292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4"/>
          <p:cNvSpPr/>
          <p:nvPr/>
        </p:nvSpPr>
        <p:spPr>
          <a:xfrm>
            <a:off x="0" y="1905120"/>
            <a:ext cx="9144000" cy="4038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3048120" y="1981080"/>
            <a:ext cx="312408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Line 6"/>
          <p:cNvSpPr/>
          <p:nvPr/>
        </p:nvSpPr>
        <p:spPr>
          <a:xfrm>
            <a:off x="609480" y="303696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7"/>
          <p:cNvSpPr/>
          <p:nvPr/>
        </p:nvSpPr>
        <p:spPr>
          <a:xfrm>
            <a:off x="609480" y="532296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8"/>
          <p:cNvSpPr/>
          <p:nvPr/>
        </p:nvSpPr>
        <p:spPr>
          <a:xfrm>
            <a:off x="1752480" y="3189240"/>
            <a:ext cx="1447920" cy="914400"/>
          </a:xfrm>
          <a:custGeom>
            <a:avLst/>
            <a:gdLst/>
            <a:ahLst/>
            <a:rect l="l" t="t" r="r" b="b"/>
            <a:pathLst>
              <a:path w="912" h="576">
                <a:moveTo>
                  <a:pt x="0" y="0"/>
                </a:moveTo>
                <a:lnTo>
                  <a:pt x="384" y="0"/>
                </a:lnTo>
                <a:lnTo>
                  <a:pt x="384" y="576"/>
                </a:lnTo>
                <a:lnTo>
                  <a:pt x="912" y="576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Freeform 9"/>
          <p:cNvSpPr/>
          <p:nvPr/>
        </p:nvSpPr>
        <p:spPr>
          <a:xfrm>
            <a:off x="1676520" y="4332240"/>
            <a:ext cx="1523880" cy="838080"/>
          </a:xfrm>
          <a:custGeom>
            <a:avLst/>
            <a:gdLst/>
            <a:ahLst/>
            <a:rect l="l" t="t" r="r" b="b"/>
            <a:pathLst>
              <a:path w="960" h="528">
                <a:moveTo>
                  <a:pt x="0" y="528"/>
                </a:moveTo>
                <a:lnTo>
                  <a:pt x="432" y="528"/>
                </a:lnTo>
                <a:lnTo>
                  <a:pt x="432" y="0"/>
                </a:lnTo>
                <a:lnTo>
                  <a:pt x="96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Line 10"/>
          <p:cNvSpPr/>
          <p:nvPr/>
        </p:nvSpPr>
        <p:spPr>
          <a:xfrm flipH="1">
            <a:off x="3352320" y="417996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914400" y="3657600"/>
            <a:ext cx="1143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=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2819520" y="3246480"/>
            <a:ext cx="1143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=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13"/>
          <p:cNvSpPr/>
          <p:nvPr/>
        </p:nvSpPr>
        <p:spPr>
          <a:xfrm>
            <a:off x="228600" y="2332080"/>
            <a:ext cx="22096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10.03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14"/>
          <p:cNvSpPr/>
          <p:nvPr/>
        </p:nvSpPr>
        <p:spPr>
          <a:xfrm>
            <a:off x="228600" y="5562720"/>
            <a:ext cx="20574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10.02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15"/>
          <p:cNvSpPr/>
          <p:nvPr/>
        </p:nvSpPr>
        <p:spPr>
          <a:xfrm>
            <a:off x="3657600" y="2057400"/>
            <a:ext cx="54864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Ou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10 x 10.03 = 15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at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 Box 16"/>
          <p:cNvSpPr/>
          <p:nvPr/>
        </p:nvSpPr>
        <p:spPr>
          <a:xfrm>
            <a:off x="3657600" y="5638680"/>
            <a:ext cx="54864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Ou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10 x 10.02 = 15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at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4419720" y="3581280"/>
            <a:ext cx="45720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25 x (15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)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Ou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0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roblem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Line 18"/>
          <p:cNvSpPr/>
          <p:nvPr/>
        </p:nvSpPr>
        <p:spPr>
          <a:xfrm flipH="1">
            <a:off x="2438280" y="2362320"/>
            <a:ext cx="106704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Line 19"/>
          <p:cNvSpPr/>
          <p:nvPr/>
        </p:nvSpPr>
        <p:spPr>
          <a:xfrm flipH="1" flipV="1">
            <a:off x="2438280" y="5257440"/>
            <a:ext cx="10670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AutoShape 20"/>
          <p:cNvSpPr/>
          <p:nvPr/>
        </p:nvSpPr>
        <p:spPr>
          <a:xfrm rot="5400000">
            <a:off x="1180440" y="2922480"/>
            <a:ext cx="609840" cy="5331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AutoShape 21"/>
          <p:cNvSpPr/>
          <p:nvPr/>
        </p:nvSpPr>
        <p:spPr>
          <a:xfrm rot="5400000">
            <a:off x="1180800" y="4903920"/>
            <a:ext cx="609480" cy="5331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AutoShape 22"/>
          <p:cNvSpPr/>
          <p:nvPr/>
        </p:nvSpPr>
        <p:spPr>
          <a:xfrm rot="5400000">
            <a:off x="3085920" y="3912840"/>
            <a:ext cx="609480" cy="5335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0" y="6172200"/>
            <a:ext cx="4343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advantag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instrumentation a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input res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differential g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metric gain </a:t>
            </a: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(assuming that </a:t>
            </a:r>
            <a:r>
              <a:rPr b="0" i="1" lang="en-US" sz="2400" spc="-1" strike="noStrike">
                <a:solidFill>
                  <a:srgbClr val="808080"/>
                </a:solidFill>
                <a:latin typeface="Calibri"/>
              </a:rPr>
              <a:t>A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808080"/>
                </a:solidFill>
                <a:latin typeface="Calibri"/>
              </a:rPr>
              <a:t>A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 are match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isadvantag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instrumentation a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Di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Cm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re equal in first st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meaning that the common-mode and differential inputs are amplified with</a:t>
            </a: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equal gain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eed for match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if two op amps which comprise stage #1 ar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 perfectly match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ne will see unintended eff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can one fix th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alleviate these disadvantage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sconnect the two resistors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nnected to nod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ground, making the configuratio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“floating”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natur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er to following slid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unction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acteristics of Ideal Op Am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deal g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defined be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deal input characteristi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infinite imped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deal output characteristi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zero imped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fferential gai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infin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andwid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n is constant from dc to high frequ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Object 4"/>
          <p:cNvGraphicFramePr/>
          <p:nvPr/>
        </p:nvGraphicFramePr>
        <p:xfrm>
          <a:off x="3581280" y="2793960"/>
          <a:ext cx="195588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2793960"/>
                    <a:ext cx="1955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Line 5"/>
          <p:cNvSpPr/>
          <p:nvPr/>
        </p:nvSpPr>
        <p:spPr>
          <a:xfrm flipV="1">
            <a:off x="4343400" y="3200040"/>
            <a:ext cx="0" cy="2971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52280" y="6095880"/>
            <a:ext cx="87631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, is an amplifier with infinite gain of any u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5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400800" cy="4560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"/>
          <p:cNvPicPr/>
          <p:nvPr/>
        </p:nvPicPr>
        <p:blipFill>
          <a:blip r:embed="rId2"/>
          <a:stretch/>
        </p:blipFill>
        <p:spPr>
          <a:xfrm>
            <a:off x="1306440" y="2828880"/>
            <a:ext cx="6465960" cy="3038400"/>
          </a:xfrm>
          <a:prstGeom prst="rect">
            <a:avLst/>
          </a:prstGeom>
          <a:ln w="0">
            <a:noFill/>
          </a:ln>
        </p:spPr>
      </p:pic>
      <p:sp>
        <p:nvSpPr>
          <p:cNvPr id="421" name="Oval 7"/>
          <p:cNvSpPr/>
          <p:nvPr/>
        </p:nvSpPr>
        <p:spPr>
          <a:xfrm>
            <a:off x="1676520" y="3200400"/>
            <a:ext cx="1752480" cy="22096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228600" y="152280"/>
            <a:ext cx="868680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2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 popular circuit for an instrumentation amplifier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circuit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the connection between node X and ground removed and the two resistor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umped together. This simple wiring change dramatically improves perform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can one analyze this circu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1306440" y="2828880"/>
            <a:ext cx="6465960" cy="303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3429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4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1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irtual shor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rcuit exists across terminals of op amp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urrent flow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ross the resistor 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3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0" name="Object 5"/>
          <p:cNvGraphicFramePr/>
          <p:nvPr/>
        </p:nvGraphicFramePr>
        <p:xfrm>
          <a:off x="5486400" y="228600"/>
          <a:ext cx="2741760" cy="639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8600"/>
                    <a:ext cx="2741760" cy="639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Line 9"/>
          <p:cNvSpPr/>
          <p:nvPr/>
        </p:nvSpPr>
        <p:spPr>
          <a:xfrm flipV="1">
            <a:off x="4343400" y="990720"/>
            <a:ext cx="1371600" cy="129528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Line 10"/>
          <p:cNvSpPr/>
          <p:nvPr/>
        </p:nvSpPr>
        <p:spPr>
          <a:xfrm flipV="1">
            <a:off x="4343400" y="990720"/>
            <a:ext cx="1371600" cy="129528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Line 11"/>
          <p:cNvSpPr/>
          <p:nvPr/>
        </p:nvSpPr>
        <p:spPr>
          <a:xfrm flipV="1">
            <a:off x="4038480" y="3657600"/>
            <a:ext cx="1371600" cy="45720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Line 12"/>
          <p:cNvSpPr/>
          <p:nvPr/>
        </p:nvSpPr>
        <p:spPr>
          <a:xfrm flipV="1">
            <a:off x="4038480" y="3657600"/>
            <a:ext cx="1371600" cy="45720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Line 13"/>
          <p:cNvSpPr/>
          <p:nvPr/>
        </p:nvSpPr>
        <p:spPr>
          <a:xfrm>
            <a:off x="4343400" y="5029200"/>
            <a:ext cx="1219320" cy="60948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Line 14"/>
          <p:cNvSpPr/>
          <p:nvPr/>
        </p:nvSpPr>
        <p:spPr>
          <a:xfrm>
            <a:off x="4343400" y="5029200"/>
            <a:ext cx="1219320" cy="60948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4"/>
          <p:cNvSpPr/>
          <p:nvPr/>
        </p:nvSpPr>
        <p:spPr>
          <a:xfrm>
            <a:off x="0" y="2133720"/>
            <a:ext cx="45720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1306440" y="2828880"/>
            <a:ext cx="6465960" cy="303840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4"/>
          <p:cNvSpPr/>
          <p:nvPr/>
        </p:nvSpPr>
        <p:spPr>
          <a:xfrm>
            <a:off x="1600200" y="403848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Line 5"/>
          <p:cNvSpPr/>
          <p:nvPr/>
        </p:nvSpPr>
        <p:spPr>
          <a:xfrm flipV="1">
            <a:off x="2362320" y="3962520"/>
            <a:ext cx="0" cy="761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Oval 6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Oval 7"/>
          <p:cNvSpPr/>
          <p:nvPr/>
        </p:nvSpPr>
        <p:spPr>
          <a:xfrm>
            <a:off x="4419720" y="510552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 Box 8"/>
          <p:cNvSpPr/>
          <p:nvPr/>
        </p:nvSpPr>
        <p:spPr>
          <a:xfrm>
            <a:off x="4572000" y="2865600"/>
            <a:ext cx="12952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Calibri"/>
              </a:rPr>
              <a:t>Out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3276720" y="5227560"/>
            <a:ext cx="12952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Calibri"/>
              </a:rPr>
              <a:t>Out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Line 10"/>
          <p:cNvSpPr/>
          <p:nvPr/>
        </p:nvSpPr>
        <p:spPr>
          <a:xfrm flipV="1">
            <a:off x="2590920" y="3200400"/>
            <a:ext cx="0" cy="45720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Line 11"/>
          <p:cNvSpPr/>
          <p:nvPr/>
        </p:nvSpPr>
        <p:spPr>
          <a:xfrm flipV="1">
            <a:off x="2590920" y="4952880"/>
            <a:ext cx="0" cy="45720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990720" y="2590920"/>
            <a:ext cx="1676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short-c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Line 13"/>
          <p:cNvSpPr/>
          <p:nvPr/>
        </p:nvSpPr>
        <p:spPr>
          <a:xfrm>
            <a:off x="3505320" y="4114800"/>
            <a:ext cx="7617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3429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3505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4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utput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erms of input al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5" name="Object 5"/>
          <p:cNvGraphicFramePr/>
          <p:nvPr/>
        </p:nvGraphicFramePr>
        <p:xfrm>
          <a:off x="4114800" y="762120"/>
          <a:ext cx="4506840" cy="53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762120"/>
                    <a:ext cx="450684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3429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rumentation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4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5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utput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#6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gain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revised instrumentation ampl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0" name="Object 5"/>
          <p:cNvGraphicFramePr/>
          <p:nvPr/>
        </p:nvGraphicFramePr>
        <p:xfrm>
          <a:off x="4832280" y="1371600"/>
          <a:ext cx="393084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32280" y="1371600"/>
                    <a:ext cx="393084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Line 10"/>
          <p:cNvSpPr/>
          <p:nvPr/>
        </p:nvSpPr>
        <p:spPr>
          <a:xfrm>
            <a:off x="4343400" y="2362320"/>
            <a:ext cx="457200" cy="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Line 11"/>
          <p:cNvSpPr/>
          <p:nvPr/>
        </p:nvSpPr>
        <p:spPr>
          <a:xfrm>
            <a:off x="4343400" y="2362320"/>
            <a:ext cx="457200" cy="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Line 12"/>
          <p:cNvSpPr/>
          <p:nvPr/>
        </p:nvSpPr>
        <p:spPr>
          <a:xfrm>
            <a:off x="3962520" y="3276720"/>
            <a:ext cx="1371600" cy="152388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Line 13"/>
          <p:cNvSpPr/>
          <p:nvPr/>
        </p:nvSpPr>
        <p:spPr>
          <a:xfrm>
            <a:off x="3962520" y="3276720"/>
            <a:ext cx="1371600" cy="152388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ntegrators and Differentiato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ntegrator / differentiator amplifi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s one which outputs 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tegral or deriva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input sig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0" y="1981080"/>
            <a:ext cx="45720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5.1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e Inverting Configur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ith General Impedanc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ansfer fun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the inverting op amp change if the feedback and input impedances are not purely resisti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, not i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r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4" descr="se02F22"/>
          <p:cNvPicPr/>
          <p:nvPr/>
        </p:nvPicPr>
        <p:blipFill>
          <a:blip r:embed="rId1"/>
          <a:stretch/>
        </p:blipFill>
        <p:spPr>
          <a:xfrm>
            <a:off x="1596960" y="4114800"/>
            <a:ext cx="5946840" cy="2392200"/>
          </a:xfrm>
          <a:prstGeom prst="rect">
            <a:avLst/>
          </a:prstGeom>
          <a:ln w="0">
            <a:noFill/>
          </a:ln>
        </p:spPr>
      </p:pic>
      <p:sp>
        <p:nvSpPr>
          <p:cNvPr id="475" name="Oval 6"/>
          <p:cNvSpPr/>
          <p:nvPr/>
        </p:nvSpPr>
        <p:spPr>
          <a:xfrm>
            <a:off x="6095880" y="4724280"/>
            <a:ext cx="1676520" cy="1524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2.4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Op-Amp Configuration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the circuit on next slide p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a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rive an expression for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ansfer function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u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/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b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 that the transfer function is of a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low-pass ST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rcu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c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expressing the transfer function in standard form of Table 1.2, find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c-gain and 3dB frequ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9"/>
          <p:cNvSpPr/>
          <p:nvPr/>
        </p:nvSpPr>
        <p:spPr>
          <a:xfrm>
            <a:off x="0" y="1905120"/>
            <a:ext cx="66294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Rectangle 2"/>
          <p:cNvSpPr/>
          <p:nvPr/>
        </p:nvSpPr>
        <p:spPr>
          <a:xfrm>
            <a:off x="2590920" y="1981080"/>
            <a:ext cx="3886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666880" y="6553080"/>
            <a:ext cx="3810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2.4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Op-Amp Configuratio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Picture 4" descr="se02F23"/>
          <p:cNvPicPr/>
          <p:nvPr/>
        </p:nvPicPr>
        <p:blipFill>
          <a:blip r:embed="rId1"/>
          <a:stretch/>
        </p:blipFill>
        <p:spPr>
          <a:xfrm>
            <a:off x="2057400" y="2004840"/>
            <a:ext cx="5029200" cy="462456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3"/>
          <p:cNvSpPr/>
          <p:nvPr/>
        </p:nvSpPr>
        <p:spPr>
          <a:xfrm rot="5400000">
            <a:off x="6170760" y="319896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23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ircuit for Example 2.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unction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acteristics of Ideal Op Am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deal gain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defined be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deal input characteristic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finite imped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deal output characteristic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zero imped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3316320" y="2755800"/>
          <a:ext cx="2374920" cy="5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6320" y="2755800"/>
                    <a:ext cx="237492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se02F03"/>
          <p:cNvPicPr/>
          <p:nvPr/>
        </p:nvPicPr>
        <p:blipFill>
          <a:blip r:embed="rId3"/>
          <a:stretch/>
        </p:blipFill>
        <p:spPr>
          <a:xfrm>
            <a:off x="1023840" y="2057400"/>
            <a:ext cx="7053480" cy="458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5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Inverting Integra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can inverting op-amp be adapted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erform integr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zation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pacitor as feedb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mped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5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Inverting Integra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6" descr=""/>
          <p:cNvPicPr/>
          <p:nvPr/>
        </p:nvPicPr>
        <p:blipFill>
          <a:blip r:embed="rId1"/>
          <a:stretch/>
        </p:blipFill>
        <p:spPr>
          <a:xfrm>
            <a:off x="2525760" y="1909800"/>
            <a:ext cx="7304040" cy="268776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2"/>
          <p:cNvSpPr/>
          <p:nvPr/>
        </p:nvSpPr>
        <p:spPr>
          <a:xfrm>
            <a:off x="22860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24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miller or inverting integrator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equency response of the integr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8"/>
          <p:cNvSpPr/>
          <p:nvPr/>
        </p:nvSpPr>
        <p:spPr>
          <a:xfrm>
            <a:off x="6934320" y="2438280"/>
            <a:ext cx="38098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6" name="Object 9"/>
          <p:cNvGraphicFramePr/>
          <p:nvPr/>
        </p:nvGraphicFramePr>
        <p:xfrm>
          <a:off x="344520" y="4157640"/>
          <a:ext cx="8418600" cy="239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4520" y="4157640"/>
                    <a:ext cx="84186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5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Inverting Integra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oble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this configuration (related to dc gain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dc frequency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0), gain is infin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n = 1 /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lu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y placing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ery large resistor in parallel with the capaci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negative feedback is employed to make dc gain “finit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5.2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The Inverting Integrator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2"/>
          <p:cNvSpPr/>
          <p:nvPr/>
        </p:nvSpPr>
        <p:spPr>
          <a:xfrm>
            <a:off x="22860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25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Miller integrator with a large resistanc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nected in parallel wit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order to provide negative feedback and hence finite gain at d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6" name="Object 6"/>
          <p:cNvGraphicFramePr/>
          <p:nvPr/>
        </p:nvGraphicFramePr>
        <p:xfrm>
          <a:off x="351000" y="5129280"/>
          <a:ext cx="8335800" cy="15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5129280"/>
                    <a:ext cx="833580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Picture 4" descr="se02F25"/>
          <p:cNvPicPr/>
          <p:nvPr/>
        </p:nvPicPr>
        <p:blipFill>
          <a:blip r:embed="rId3"/>
          <a:stretch/>
        </p:blipFill>
        <p:spPr>
          <a:xfrm>
            <a:off x="2895480" y="1963800"/>
            <a:ext cx="3300480" cy="276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2.5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ller Integra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iller integrato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a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response of a Miller Integrator to input pulse of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ight and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d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Oh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b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integrator capacitor is shunted by a 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Oh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sistor, how will the response be modifi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op amp will saturate at +/- 13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0" y="1905120"/>
            <a:ext cx="449568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5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Op-Amp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fferentia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 can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dapt integrator to perform differenti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terchan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cations of resistors and capac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4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4113360" cy="222732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2"/>
          <p:cNvSpPr/>
          <p:nvPr/>
        </p:nvSpPr>
        <p:spPr>
          <a:xfrm>
            <a:off x="2362320" y="6172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27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differenti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0" y="1905120"/>
            <a:ext cx="449568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5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Op-Amp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fferentia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4113360" cy="222732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2"/>
          <p:cNvSpPr/>
          <p:nvPr/>
        </p:nvSpPr>
        <p:spPr>
          <a:xfrm>
            <a:off x="2362320" y="6172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27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differenti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3" name="Object 7"/>
          <p:cNvGraphicFramePr/>
          <p:nvPr/>
        </p:nvGraphicFramePr>
        <p:xfrm>
          <a:off x="685800" y="1978200"/>
          <a:ext cx="7404120" cy="19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978200"/>
                    <a:ext cx="740412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5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Op-Amp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fferentia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6868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ltering characteristi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pass fil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gnitude of transfer func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hase of transfer func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-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fferentiator time-consta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frequency at which unity gain occurs and defined as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 /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oblem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differentiat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iator acts 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ise ampl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exhibiting large changes in output from small (but fast) changes in input.  As such, it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arely used in pract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C Imperfectio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ill be discussed moving 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n c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ne NOT consider an op amp to be ide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what effect will that have on oper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ffset Voltag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0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is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nput offset volt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maginary voltage sour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eries with the user-supplied input, which effects an op amp output even w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f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= 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Picture 4" descr="se02F28"/>
          <p:cNvPicPr/>
          <p:nvPr/>
        </p:nvPicPr>
        <p:blipFill>
          <a:blip r:embed="rId1"/>
          <a:stretch/>
        </p:blipFill>
        <p:spPr>
          <a:xfrm>
            <a:off x="4648320" y="2090880"/>
            <a:ext cx="4213080" cy="32432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3"/>
          <p:cNvSpPr/>
          <p:nvPr/>
        </p:nvSpPr>
        <p:spPr>
          <a:xfrm>
            <a:off x="4724280" y="5365800"/>
            <a:ext cx="4191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28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ircuit model for an op amp with input offset voltag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152280" y="5867280"/>
            <a:ext cx="44960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hat will happen when short is appli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Line 7"/>
          <p:cNvSpPr/>
          <p:nvPr/>
        </p:nvSpPr>
        <p:spPr>
          <a:xfrm>
            <a:off x="4952880" y="34290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5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unction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acteristics of Ideal Op-Am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mplifier’s input is composed of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two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nent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differential inpu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f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s difference between inputs at inverting and non-inverting termin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mmon-mode inpu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m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– i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 present at both inverting and non-inverting termin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Object 7"/>
          <p:cNvGraphicFramePr/>
          <p:nvPr/>
        </p:nvGraphicFramePr>
        <p:xfrm>
          <a:off x="1587600" y="4572000"/>
          <a:ext cx="59385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0" y="4572000"/>
                    <a:ext cx="5938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ffset Voltag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533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ause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avoidabl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ismatch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differential stage of the op amp.  It is impossible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erfectly m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l transis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 of magnitud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5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1" name="Object 5"/>
          <p:cNvGraphicFramePr/>
          <p:nvPr/>
        </p:nvGraphicFramePr>
        <p:xfrm>
          <a:off x="5791320" y="3200400"/>
          <a:ext cx="2998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200400"/>
                    <a:ext cx="2998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ffset Voltag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533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ause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avoidabl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ismatch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differential stage of the op amp.  It is impossible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erfectly m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l transis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 of magnitud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5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6" name="Object 4"/>
          <p:cNvGraphicFramePr/>
          <p:nvPr/>
        </p:nvGraphicFramePr>
        <p:xfrm>
          <a:off x="5791320" y="3200400"/>
          <a:ext cx="2998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200400"/>
                    <a:ext cx="2998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Line 5"/>
          <p:cNvSpPr/>
          <p:nvPr/>
        </p:nvSpPr>
        <p:spPr>
          <a:xfrm>
            <a:off x="7162920" y="1447920"/>
            <a:ext cx="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228600" y="152280"/>
            <a:ext cx="8686800" cy="1708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is relationship between offset voltage 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O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 and offset dc output 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OsOu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 applies to both inverting and non-inverting op amp.  However, only if one assumes that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O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is present at non-inverting inp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ffset Voltag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can th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ffset be reduc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offset nulling terminal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ariable resis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if properly set) may be used to reduce the asymmetry present and, in turn, reduce offs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apacitive cou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eries capacitor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d between the source and op amp may be used to reduce offset, although it will also filter out dc sign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1536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3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output dc offset voltage of an op-amp can be trimmed to zero by connecting a potentiometer to the two 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offset-nulling termina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wiper of the potentiometer is connected to the negative supply of the op amp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Picture 4" descr="se02F30"/>
          <p:cNvPicPr/>
          <p:nvPr/>
        </p:nvPicPr>
        <p:blipFill>
          <a:blip r:embed="rId1"/>
          <a:stretch/>
        </p:blipFill>
        <p:spPr>
          <a:xfrm>
            <a:off x="1068480" y="1954080"/>
            <a:ext cx="7008840" cy="475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1536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31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capacitively-couple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rting amplifier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equivalent circuit for determining its dc output offset voltag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Picture 4" descr="se02F31"/>
          <p:cNvPicPr/>
          <p:nvPr/>
        </p:nvPicPr>
        <p:blipFill>
          <a:blip r:embed="rId1"/>
          <a:stretch/>
        </p:blipFill>
        <p:spPr>
          <a:xfrm>
            <a:off x="228600" y="2927520"/>
            <a:ext cx="8686800" cy="2787480"/>
          </a:xfrm>
          <a:prstGeom prst="rect">
            <a:avLst/>
          </a:prstGeom>
          <a:ln w="0">
            <a:noFill/>
          </a:ln>
        </p:spPr>
      </p:pic>
      <p:sp>
        <p:nvSpPr>
          <p:cNvPr id="563" name="Line 8"/>
          <p:cNvSpPr/>
          <p:nvPr/>
        </p:nvSpPr>
        <p:spPr>
          <a:xfrm>
            <a:off x="762120" y="228600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152280" y="2071800"/>
            <a:ext cx="3581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c signals cannot pas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nput Bi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 Offset Curren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44197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nput bias 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is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c current which must be suppli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the op-amp inputs for proper operation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lly, this current is zero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nput offset 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fference between bias 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both termin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4" descr="se02F32"/>
          <p:cNvPicPr/>
          <p:nvPr/>
        </p:nvPicPr>
        <p:blipFill>
          <a:blip r:embed="rId1"/>
          <a:stretch/>
        </p:blipFill>
        <p:spPr>
          <a:xfrm>
            <a:off x="4648320" y="1981080"/>
            <a:ext cx="4267080" cy="39960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3"/>
          <p:cNvSpPr/>
          <p:nvPr/>
        </p:nvSpPr>
        <p:spPr>
          <a:xfrm>
            <a:off x="4724280" y="457200"/>
            <a:ext cx="4191120" cy="12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3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op-amp input bias currents represented by two current source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0000">
                <a:solidFill>
                  <a:srgbClr val="000000"/>
                </a:solidFill>
                <a:latin typeface="Calibri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0000">
                <a:solidFill>
                  <a:srgbClr val="000000"/>
                </a:solidFill>
                <a:latin typeface="Calibri"/>
              </a:rPr>
              <a:t>B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.2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nput Bi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 Offset Curren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560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nput bias 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is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c current which must be suppli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the op-amp inputs for proper operation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lly, this current is zero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nput offset 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fference between bias 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both termin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4" descr="se02F32"/>
          <p:cNvPicPr/>
          <p:nvPr/>
        </p:nvPicPr>
        <p:blipFill>
          <a:blip r:embed="rId1"/>
          <a:stretch/>
        </p:blipFill>
        <p:spPr>
          <a:xfrm>
            <a:off x="4648320" y="1981080"/>
            <a:ext cx="4267080" cy="39960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4724280" y="457200"/>
            <a:ext cx="4191120" cy="12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3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op-amp input bias currents represented by two current source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0000">
                <a:solidFill>
                  <a:srgbClr val="000000"/>
                </a:solidFill>
                <a:latin typeface="Calibri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0000">
                <a:solidFill>
                  <a:srgbClr val="000000"/>
                </a:solidFill>
                <a:latin typeface="Calibri"/>
              </a:rPr>
              <a:t>B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6" name="Object 7"/>
          <p:cNvGraphicFramePr/>
          <p:nvPr/>
        </p:nvGraphicFramePr>
        <p:xfrm>
          <a:off x="914400" y="685800"/>
          <a:ext cx="7304040" cy="542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685800"/>
                    <a:ext cx="730404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nput Bi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 Offset Curren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3005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can this bias be reduc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lacement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resistor between non-inverting input and grou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arallel connec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Object 4"/>
          <p:cNvGraphicFramePr/>
          <p:nvPr/>
        </p:nvGraphicFramePr>
        <p:xfrm>
          <a:off x="5526000" y="2133720"/>
          <a:ext cx="2551320" cy="27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0" y="2133720"/>
                    <a:ext cx="255132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7.1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equency Depend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the Open-Loop Gain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3886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fferential open-loop gain of an op-amp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t infin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nite and decrea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frequ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high at dc, bu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alls off quick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rting from 10H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Picture 4" descr="se02F39"/>
          <p:cNvPicPr/>
          <p:nvPr/>
        </p:nvPicPr>
        <p:blipFill>
          <a:blip r:embed="rId1"/>
          <a:stretch/>
        </p:blipFill>
        <p:spPr>
          <a:xfrm>
            <a:off x="4267080" y="2209680"/>
            <a:ext cx="4419720" cy="295776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3"/>
          <p:cNvSpPr/>
          <p:nvPr/>
        </p:nvSpPr>
        <p:spPr>
          <a:xfrm>
            <a:off x="4572000" y="52578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39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-loop gain of a typical general-purpose internally compensated op am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7.1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equency Depend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the Open-Loop Gain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5334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nternal compensa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s the presence of internal passive components (caps) which cause op-amp to demonstrat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TC low-pass respon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frequency compensa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s the process of modifying the open-loop g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oal is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crease stabi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Picture 4" descr="se02F39"/>
          <p:cNvPicPr/>
          <p:nvPr/>
        </p:nvPicPr>
        <p:blipFill>
          <a:blip r:embed="rId1"/>
          <a:stretch/>
        </p:blipFill>
        <p:spPr>
          <a:xfrm>
            <a:off x="5638680" y="2506680"/>
            <a:ext cx="3198960" cy="214164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3"/>
          <p:cNvSpPr/>
          <p:nvPr/>
        </p:nvSpPr>
        <p:spPr>
          <a:xfrm>
            <a:off x="5638680" y="48006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gure 2.39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-loop gain of a typical general-purpose internally compensated op am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5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unction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acteristics of Ideal Op-Am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ly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onents of gain exis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differential gai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gain applied to differential input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mmon-mode gai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n applied to common-mode input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Object 5"/>
          <p:cNvGraphicFramePr/>
          <p:nvPr/>
        </p:nvGraphicFramePr>
        <p:xfrm>
          <a:off x="609480" y="4648320"/>
          <a:ext cx="793440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648320"/>
                    <a:ext cx="793440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7.1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equency Depend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the Open-Loop Gain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3049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gain of an internally compensated op-amp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be expressed as shown below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8" name="Object 5"/>
          <p:cNvGraphicFramePr/>
          <p:nvPr/>
        </p:nvGraphicFramePr>
        <p:xfrm>
          <a:off x="457200" y="1994040"/>
          <a:ext cx="8182080" cy="45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94040"/>
                    <a:ext cx="8182080" cy="45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Freeform 6"/>
          <p:cNvSpPr/>
          <p:nvPr/>
        </p:nvSpPr>
        <p:spPr>
          <a:xfrm>
            <a:off x="7162920" y="5715000"/>
            <a:ext cx="1218960" cy="609480"/>
          </a:xfrm>
          <a:custGeom>
            <a:avLst/>
            <a:gdLst/>
            <a:ahLst/>
            <a:rect l="l" t="t" r="r" b="b"/>
            <a:pathLst>
              <a:path w="624" h="96">
                <a:moveTo>
                  <a:pt x="0" y="96"/>
                </a:moveTo>
                <a:lnTo>
                  <a:pt x="624" y="96"/>
                </a:lnTo>
                <a:lnTo>
                  <a:pt x="62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7.2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equency Response of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osed-Loop Amplifie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3005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ow can we create a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more accurate descrip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closed loop gain for an inverting-type op-amp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ep #1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efine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closed-loop ga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an inverting amplifier with finite open-loop gain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ep #2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Insert frequency-dependen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escription of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from last sl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ep #3: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Assu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&gt;&gt; 1 +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4" name="Object 4"/>
          <p:cNvGraphicFramePr/>
          <p:nvPr/>
        </p:nvGraphicFramePr>
        <p:xfrm>
          <a:off x="4656240" y="990720"/>
          <a:ext cx="4259160" cy="52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6240" y="990720"/>
                    <a:ext cx="4259160" cy="52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Line 10"/>
          <p:cNvSpPr/>
          <p:nvPr/>
        </p:nvSpPr>
        <p:spPr>
          <a:xfrm flipV="1">
            <a:off x="4191120" y="1523520"/>
            <a:ext cx="457200" cy="213372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Line 11"/>
          <p:cNvSpPr/>
          <p:nvPr/>
        </p:nvSpPr>
        <p:spPr>
          <a:xfrm flipV="1">
            <a:off x="4191120" y="1523520"/>
            <a:ext cx="457200" cy="213372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Line 12"/>
          <p:cNvSpPr/>
          <p:nvPr/>
        </p:nvSpPr>
        <p:spPr>
          <a:xfrm flipV="1">
            <a:off x="4038480" y="2590920"/>
            <a:ext cx="609840" cy="213336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Line 13"/>
          <p:cNvSpPr/>
          <p:nvPr/>
        </p:nvSpPr>
        <p:spPr>
          <a:xfrm flipV="1">
            <a:off x="4038480" y="2590920"/>
            <a:ext cx="609840" cy="21333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Line 14"/>
          <p:cNvSpPr/>
          <p:nvPr/>
        </p:nvSpPr>
        <p:spPr>
          <a:xfrm flipV="1">
            <a:off x="4038480" y="5334120"/>
            <a:ext cx="609840" cy="457200"/>
          </a:xfrm>
          <a:prstGeom prst="line">
            <a:avLst/>
          </a:prstGeom>
          <a:ln w="3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Line 15"/>
          <p:cNvSpPr/>
          <p:nvPr/>
        </p:nvSpPr>
        <p:spPr>
          <a:xfrm flipV="1">
            <a:off x="4038480" y="5334120"/>
            <a:ext cx="609840" cy="45720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5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5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7.2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equency Response o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ed-Loop Amplifier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 can we create a more accurate description of closed loop gain for 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oth inverting and non-inverting 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-amp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5" name="Object 5"/>
          <p:cNvGraphicFramePr/>
          <p:nvPr/>
        </p:nvGraphicFramePr>
        <p:xfrm>
          <a:off x="838080" y="3886200"/>
          <a:ext cx="7386840" cy="18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86200"/>
                    <a:ext cx="738684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7.2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equency Response o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ed-Loop Amplifier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0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3</a:t>
            </a:r>
            <a:r>
              <a:rPr b="1" i="1" lang="en-US" sz="2800" spc="-1" strike="noStrike">
                <a:solidFill>
                  <a:srgbClr val="3333ff"/>
                </a:solidFill>
                <a:latin typeface="Calibri"/>
              </a:rPr>
              <a:t>dB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 frequenc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the frequency at which the amplifier gain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ttenuated 3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maximum (aka. dc )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0" name="Object 4"/>
          <p:cNvGraphicFramePr/>
          <p:nvPr/>
        </p:nvGraphicFramePr>
        <p:xfrm>
          <a:off x="5170320" y="2895480"/>
          <a:ext cx="244980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0320" y="2895480"/>
                    <a:ext cx="24498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8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Large-Signa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eration of Op-Amp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0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8.1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utput Voltage Sat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supply is +/- 15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ll saturate around +/- 13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14840" y="2057400"/>
            <a:ext cx="4300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8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Output Current Lim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urrent of op-amp, including that which facilitates feedback, cannot exceed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ok approximates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2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A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8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lew Rat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0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lew rat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s maximum rate of change of an op-amp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can this be problemati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slew rate is less than rate of change of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9" name="Object 4"/>
          <p:cNvGraphicFramePr/>
          <p:nvPr/>
        </p:nvGraphicFramePr>
        <p:xfrm>
          <a:off x="5867280" y="3173400"/>
          <a:ext cx="2065320" cy="13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173400"/>
                    <a:ext cx="206532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8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lew Rat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0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es slewing occu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hort,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andwidth of the op- amp is limi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so the output at very high frequencies is attenuated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Picture 4" descr="se02F43"/>
          <p:cNvPicPr/>
          <p:nvPr/>
        </p:nvPicPr>
        <p:blipFill>
          <a:blip r:embed="rId1"/>
          <a:stretch/>
        </p:blipFill>
        <p:spPr>
          <a:xfrm>
            <a:off x="4572000" y="2590920"/>
            <a:ext cx="4383000" cy="312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8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ull-Power Bandwidth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300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-amp slewing will caus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nlinear distor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sinusoidal waveform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e w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e of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8" name="Object 4"/>
          <p:cNvGraphicFramePr/>
          <p:nvPr/>
        </p:nvGraphicFramePr>
        <p:xfrm>
          <a:off x="5257800" y="1981080"/>
          <a:ext cx="3208320" cy="22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981080"/>
                    <a:ext cx="3208320" cy="22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0" name="Picture 4" descr="se02F44"/>
          <p:cNvPicPr/>
          <p:nvPr/>
        </p:nvPicPr>
        <p:blipFill>
          <a:blip r:embed="rId3"/>
          <a:stretch/>
        </p:blipFill>
        <p:spPr>
          <a:xfrm>
            <a:off x="5030640" y="4343400"/>
            <a:ext cx="3427560" cy="199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8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ull-Power Bandwidth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6653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full-power bandwid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– the maximum frequency at which amplitude of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inusoidal input and output are eq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maximum output volt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utM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– is equal to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verse relationshi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xists betwe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utM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beyon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output may be defined in terms o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4" name="Object 4"/>
          <p:cNvGraphicFramePr/>
          <p:nvPr/>
        </p:nvGraphicFramePr>
        <p:xfrm>
          <a:off x="6794640" y="1986120"/>
          <a:ext cx="189216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4640" y="1986120"/>
                    <a:ext cx="189216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IC op-amp is a versatile circuit building block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easy to apply, and the performance of op-amp circuits closely matches theoretical predi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op-amp terminals are the inverting terminal (1), the non-inverting input terminal (2), the output terminal (3), the positive-supply terminal (4) to be connected to the positive power supply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CC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, and the negative-supply terminal (5) to be connected to the negative supply (-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EE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unction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acteristics of Ideal Op Am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able 2.1: Characteristics of Ideal Op 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inite input imped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ero output imped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ero common-mode gain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ete common-mode reje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inite open-loop gain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infin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inite band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ideal op-amp responds only to the difference input signal, that is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-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.  It yields an output between terminals 3 and ground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-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pen-loop gain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assumed to be infinite.  The input resistanc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infinite.  The output resistanc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assumed to be ze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egative feedback is applied to an op-amp by connecting a passive component between its output terminal and its inverting (aka. negative) input termi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egative feedback causes the voltage between the two input terminals to become very small, and ideally zero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spondingly, a virtual short is said to exist between the two input terminals.  If the positive input terminal is connected to ground, a virtual ground appears on the negative termi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two most important assumptions in the analysis of op-amp circui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ssuming negative feedback exists, 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wo input terminals of the op-amp are at the same voltage potent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ero current flows into the op-amp input termin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negative feedback applied and the loop closed,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gain is almost entirely determined by external components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1+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5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62485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non-inverting closed-loop configuration features a very high input resistance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A special case is the unity-gain follower, frequently employed as a buffer amplifier to connect a high-resistance source to a low-resistance lo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difference amplifier of Figure 2.16 is designed with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resulting in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=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-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4" descr="se02F16"/>
          <p:cNvPicPr/>
          <p:nvPr/>
        </p:nvPicPr>
        <p:blipFill>
          <a:blip r:embed="rId1"/>
          <a:stretch/>
        </p:blipFill>
        <p:spPr>
          <a:xfrm>
            <a:off x="6553080" y="3048120"/>
            <a:ext cx="2362320" cy="162396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5"/>
          <p:cNvSpPr/>
          <p:nvPr/>
        </p:nvSpPr>
        <p:spPr>
          <a:xfrm>
            <a:off x="6781680" y="48006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gure 2.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6248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instrumentation amplifier of Figure 2.20(b) is a very popular circuit.  It provides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= (1+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-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It is usually designed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lected to provide the required gain.  If an adjustable gain is needed, part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made vari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6" name="Picture 4" descr=""/>
          <p:cNvPicPr/>
          <p:nvPr/>
        </p:nvPicPr>
        <p:blipFill>
          <a:blip r:embed="rId1"/>
          <a:stretch/>
        </p:blipFill>
        <p:spPr>
          <a:xfrm>
            <a:off x="6488280" y="3395520"/>
            <a:ext cx="2503440" cy="117648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5"/>
          <p:cNvSpPr/>
          <p:nvPr/>
        </p:nvSpPr>
        <p:spPr>
          <a:xfrm>
            <a:off x="6781680" y="48006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gure 2.20(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7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62485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verting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iller Ampl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Figure 2.24 is a popular circuit, frequently employed in analog signal-processing functions such as filters (Chapter 16) and oscillators (Chapter 17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put offset voltage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magnitude of dc voltage that when applied between the op-amp input terminals, with appropriate polarity, reduces the dc offset at the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6477120" y="3048120"/>
            <a:ext cx="4419360" cy="162540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5"/>
          <p:cNvSpPr/>
          <p:nvPr/>
        </p:nvSpPr>
        <p:spPr>
          <a:xfrm>
            <a:off x="9144000" y="2819520"/>
            <a:ext cx="1828800" cy="19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6781680" y="48006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gure 2.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2:06:37Z</dcterms:created>
  <dc:creator>deese</dc:creator>
  <dc:description/>
  <dc:language>en-US</dc:language>
  <cp:lastModifiedBy>Jeffrey N. Denenberg</cp:lastModifiedBy>
  <dcterms:modified xsi:type="dcterms:W3CDTF">2013-05-30T14:52:40Z</dcterms:modified>
  <cp:revision>417</cp:revision>
  <dc:subject/>
  <dc:title>Slide 1</dc:title>
</cp:coreProperties>
</file>